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D25-3861-4DC9-B694-5AB065B7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9F7-2EB3-401F-BD5E-EC2CABD3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8DD3A-75CE-4F3F-ACBB-BB6553C8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DCE75-F1B1-42D0-AC23-3E1AF7D7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454B0-6FC3-4A9C-9AE7-DB4E0B1D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C55D5-6B32-43E3-BFE7-71083DE7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C1CA0-F96C-4F0E-8D9D-804CE9E5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2F2FB-2074-431F-8CB6-96FEE806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CF768-F31A-4094-80A6-02132BBD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30ABE-B4E1-4274-940C-35D137EA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FC84A-4FFB-49D8-9F3C-8114BFE3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0581D-4EFC-4A72-BFF2-7D8EB76E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D1A-17F7-45B8-A55B-D2D707E7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56F23-B071-49EB-983A-323A4A7A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DA5B8-D2D3-4BE7-A5BE-E34CB425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75E32-1337-4001-8D0D-31240B59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CEA97-0FBA-407D-85FD-B2FB7095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69587-D522-4435-9B68-97F6B084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82359-D988-4514-B468-4EF0ABE6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CD0A7-3F41-4EAD-BC74-58F45CB9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BEF48-5FF5-40FA-B698-142C2F5E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E4539-044B-439E-BCC9-103423F0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465AD-5758-4E3C-BE26-72B06409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9C6D-2066-4AF0-A438-36728189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4719D-FDCF-48ED-980A-77ECD9CE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1DCFE-BBAA-44F1-88EB-4804666E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89E6C-8BAC-465C-B25B-09BDA54E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69974-7079-4CC4-B99D-33C4FF18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730F2-A022-4490-8891-FC2C7A70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DCB54-75DB-4537-838D-790EBADF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3D33F-ADDF-4844-BEC1-AA96CD32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1B5B8-36AF-43C5-A7E3-3CB567D4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2771A-14A5-4462-9426-82C05FCC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9E244-A8D6-48BC-AEED-9A1D85D5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BA83-37CD-46B2-AAC3-69ABB3E2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A8547-63CE-496B-8426-2068BFE8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EEE3A-ECB1-44E4-AFA5-53F89298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7DF10-5381-4E6F-93EE-024E39B3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E5C60-E45C-427F-B7A9-894CD094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287A6-410E-4D1E-B85B-6442E097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22D62-03F2-4139-A053-4723F8AC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B8894-DC36-440C-BF3D-90675751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80C06-7D5F-4BF2-BF46-6D752B39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181DF-336F-475A-95B1-B43003B0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A82AB-3A18-400A-9FC4-C9074833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08EB-2864-4E3A-8EE8-A375C59B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E77BC-E028-4C01-B205-854D4C78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AEB31-9930-4448-BF24-5D4421E0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A6DA4-A6B1-4050-A9C4-E0499DF2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F2E52-8096-4E64-BF3F-0FC16D85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DB3E8-CBE4-464E-86D0-94C90F6F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E7255-07CE-4F37-A0B9-042F3E5C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9BA5A-F13C-4262-9177-BBC2B3A0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FC4D5-95D0-4580-BFA0-CD08902F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AB6EAB-69BB-42F3-BE69-DB97F08E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21F7C-647D-4AFF-B35D-D738E7C0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879B-7089-421C-B6B0-BAA6B2E4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503CDC-CF0D-494A-A10B-CFF14F6C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FA6C13-7827-4601-8E1D-CBC9483F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B21F0-64EA-4F79-AF0E-A1A5209A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5D0D8-9238-4276-8061-1B121DA5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3F7DA-F9B2-4C9D-9166-56119EB3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A425F-A1F2-4EFF-89C0-F86CAF4B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C9F4C2-DE86-4A52-AEA2-915C9704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C4B72-C958-4E8A-A6F5-0AC74667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72DA9C-0BD1-4B43-BD6A-26DDFBC6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CB6949-C77D-4855-99CE-EF8A10E7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F40A-D45E-4100-B9FA-8E968B9A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DA32FB-7DEC-4658-9FA4-A7248040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1B5673-1959-42C0-B33D-FA1E4DAB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F822B8-4BDF-4E8A-AD46-22BE098C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E790BC-2259-4865-AA8D-6A21721B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721A73-C97B-42C1-AD49-368B2D4D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26D086-2AC0-434A-90FB-BC530B4B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3306D6-41A8-42AE-B671-67B0027D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6558D-FE2A-4AA8-B612-81EC4AAC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621D9B-6587-473F-B049-D4BF7D24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DC17C7-505E-4184-B4DD-A3140B40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9B1F-5422-45EE-ADB6-7E3541F4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41B105-3A12-40AE-9A9A-32659494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567EA6-1C6E-4840-9C01-32FA62A9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7BDE33-5A8A-4439-A898-09C3AA6C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1A495E-98FC-48B4-A248-98D7EC58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9BFA60-E485-420B-9E17-18168DC2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3C229A-582E-49F4-9B2A-5AACD7FD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275D0D-A564-4E3F-A989-BF3026DD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2F05EB-6DB5-45E9-B423-967F4052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19DC3A-21E8-441E-B9FD-BEAA8837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3B4CAC-7E8A-4DC1-BAFA-0497596B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A6F3-B7DA-4864-A8B8-CD80149D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CB0F43-56E2-437F-80B5-B7CEB08E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C36DB4-BD3E-4C3B-9A3F-B9BE18EF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F3A781-FDB7-48F2-9623-45816662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4DD698-6F6D-4E8D-8D63-0F9D0E79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CBBCD7-13E4-418F-B5C4-72A258F5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0956A-A106-432A-B3B4-67E5D2CD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1C544C-567A-4DC7-A770-C477B23E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5073C0-A24B-4971-A998-3EDE5ACC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3EB029-7FB9-457D-A7BB-26FFC8DE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A7073A-F537-421E-ACDA-7510CD66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AFF3-F70F-404B-AB44-4BE4DBAD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77125B-B884-47D6-8A57-1DB5CF11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551C26-36F3-4E3B-A8D4-D3A30C1D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B3DC50-F0C2-458D-885C-232D3F12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6CB034-0B6B-42C6-8F62-F35722CE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9D152E-612E-4960-912D-D1F8FF2F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D71E9F-259B-443A-AF84-F3926599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88B23A-6A52-4CDB-8D09-758C19D2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BBB799-8F64-4043-B0C0-0E5373C1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94D342-2F96-4434-82B5-78BD959D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E02D75-390E-48D1-883D-4A8185F0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D51-A002-4432-B2DD-5925C0B5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0D9D-BA5F-4EA7-9F3E-67001438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84F856-6CFC-4920-A8CC-566A9F5B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31D6F1-B104-40CA-AAFA-4F3D1338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8FF784-4776-4060-8CF1-516957EF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D85F4E-8A7F-4851-A1B2-B770FBAF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C85E5B-2383-4EB8-A3A1-DDBF8BA9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0E9A6C-0008-4B73-8550-2D28F93A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9171D1-3777-4A59-AD05-0182F7DF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A13498-D566-475A-AFF1-CA18EC1D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CC64F9-897D-4960-BCDB-122347D8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30A340-096F-4CB5-8C12-CE27877F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F110-9806-4CC6-9033-F202C150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B1C8C8-2A65-4A13-9ED8-0B344360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6279E6-ED22-4404-92FB-3F73D1DC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6AD911-D053-46E5-A945-88067FDE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0767D7-09F8-4933-A3CA-A3AC64CC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DAD68E-A27B-47C4-8479-0F77EDA4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77EF9A-1B6F-47B1-9A9A-A3CE6DB6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36090A-FCA9-40C6-99E8-9B3277A0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EBDD8B-0849-49EC-A9D6-671EA0DD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57AF21-2A04-4ECC-AECB-C9AC6791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16D976-1266-408E-B47E-D1965EB5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5E86-9DCE-4F01-97DA-50ABD525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B25AE3-902A-4C63-AA6D-7EBCCCCE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315E7F-4813-44B5-A8A4-D8BDB795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B59EFA-2E3A-40F0-B6B5-A41D5B2A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366BAA-70CE-44CF-99D0-2DA97F29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9890AE-7FC6-418D-B735-BE41E736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1E8A54-17DB-4DAF-AACA-54EE7B83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45B6AF-81A0-4245-B1A3-D90D2285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A88228-30D4-493C-8269-8FA37EC2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3E7DC0-788F-43E8-80E9-FE8A25BF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045B94-C0BD-4383-BF7A-2E9EC248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B92D-9A9C-4BFC-B5BE-157F4FAA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6AB725-F1A3-471D-94B3-598E47F1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3095E2-00BD-4097-A1A4-E46148B2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AE5FA7-D183-4C4F-B6B6-50E251D2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DF834C-5758-482A-8CB3-93A1F80D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5C3364-DD0D-4A63-8A14-5B48E033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512CC3-5519-40A2-8295-C9EDFABC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797CDD-FC4A-4A6C-AFBE-B3C6FF3C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F7DF40-AB70-4732-9478-64D84969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981E2A-454D-40E0-865B-0594B238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BFA70A-F48E-43C1-B87F-10438367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2681-01D6-4FA0-82DA-680C8438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202939-3ED0-4CF7-8CF8-BEF6951F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763A73-475A-4C55-95A7-BBDE2AA1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06B85D-30F9-44A0-AB70-02B6033E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05FE61-0112-4B33-9A1B-7FF7CA31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CE6C42-F3BF-4C9E-BAA9-E81933B3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4BCA0A-3D3A-4855-AC73-9B1F3A48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600B97-5C94-4B72-83C1-969A67DC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511F16-151F-4B84-9425-05A7384E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6BDD21-602F-4C80-A565-B1AD57AD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1880E9-D1BE-45BA-A0D7-3D3C8130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4FBD8-9000-4A4F-A266-CA73DD75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0394EE-EE38-49FF-BBF4-58FD9CE4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812947-F20D-4C33-84E4-E719F1D0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AD154F-C99E-49B2-BB7C-010CBD84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90B589-5554-4407-8FDB-56C66389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BAD57D-02E5-4528-A955-21DC584C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6B0D1F-18D2-4923-BEDF-6B895594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8F8F0B-DD44-4BAF-91AB-D92EF00D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5FBB32-59F6-4A58-8010-C7097638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35899A-7DBF-41D4-9CA1-F45762ED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76E567-8E76-4421-B3A8-7267E1EC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7BC8A-D566-4456-86A1-79B5447F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845DD4-E25C-4D87-A91A-26EFF2DC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11F348-D3AD-4913-A56B-5E91887E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333461-5A52-4D5F-BC68-49CD18A0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7BEB15-7668-4B92-8FEC-1907BA4A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71DBF6-5CD0-4FEC-A695-46E68231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EAB83E-BE51-485A-9473-EF116EFA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F4F0BF-E8C2-4D3D-8094-3E44D476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0FB0AF-212A-4F23-8C0C-F91C75AE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59EAB6-E1D7-438B-AA9D-2EACED07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8AE124-2ABF-4EFD-9745-8A3039C0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45B0A-CCF9-4055-828B-8C87E359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D37D73-B68F-4A48-B34F-55342A2D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445311-C5B1-480C-A38C-78174F2E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2A97DF-5CEB-45BC-925F-2A8AA13E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7CBA92-30EC-47B1-B6AE-39AF7ED6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0F6D06-0B4F-47C8-8B78-92639492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B4DC2D-2B1F-4F49-BCCF-5EF5E1A4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5CED08-303C-4938-9822-F44000D8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D1AA7B-6932-467A-A797-74D2A1FF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1B28AC-E673-4AFE-AAE0-8AE0C7F1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162879-84EA-4050-ABDC-7FDC03AE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A8F03-B7E4-426F-BD44-68AFFCFC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3DA1CA-5526-464F-959E-052AAE41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C1176D-A485-4AAB-8639-C9919747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C270BD-8A33-4DEB-B0D6-86553269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FE3C01-28B4-4AC7-869A-505B77EC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2F5A1E-E771-4A9C-A84F-3C4E0B13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116C8E-434A-4853-AE0A-8FE6ADB1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60E919-25DF-4966-B414-FB58913B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0BCE51-2B6C-49E1-B121-007C217A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295A4A-8B86-4A2D-8C1C-2E6F9DDE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4BD1F-4332-4D28-A57E-77FAEEC4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A67F-5D20-4B17-A88D-B86E7A34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71EBC-5781-463A-9A10-E9C4278B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EED8-1699-42E9-8AE5-6A181558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4A778-9445-4888-887B-10D90018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4639F-EDF3-4B01-B83D-D6D65C63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4678D-3E07-4C1E-8CA1-ADCCEE94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F9857-9937-4369-9BCD-8C543C3F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474BF-5315-4ADF-8F70-BCFF4589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8257F-6CD0-4C0B-ACE9-82D462D7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6B74D-75FC-4560-9E6B-4FA1CAA5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2E419-7DE3-4AE3-BE7D-8AE6FD6D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A349-79E3-4B30-AE62-AE6E4548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9B1ED-B5CD-4DB5-89C5-C299C14A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7D511-6C52-45F0-872A-8D0D306C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54D6F-46D9-44A4-BFEE-652DCC82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6CA53-EFF3-4F93-A18F-CBA6A648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3B857-C368-413C-98AA-FBC1749C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CBF50-3BAA-4395-AE94-B976973F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85311-883D-45E6-95CD-4C0307A5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E4321-F854-475B-B40F-99DF7543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2184A-FB1E-47CE-803A-7353E3EC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C09E9-CCE6-4D4B-A595-3F04B91C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EC4-B025-4DBD-9339-3DAA029F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CA3F7-FEDD-454B-AC5B-C39B4783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7B558-6D96-4E17-A186-7E9931D4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BE805-70BA-4BD8-B287-CAF182AD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29237-FE43-404D-BBED-BBDE31BC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60F2D-1521-4FE0-AD7F-FCF8F979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CE0A4-E1DC-4FB2-AC5D-343B2A4F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55949-0820-4D29-8678-A5316627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D9556-7A93-4A39-8F19-A9B38E02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ED07E-D549-4B88-967F-B6FA9C0D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1776E-5C32-4C66-90A8-14E1D231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DE1F-72B1-41EE-8319-6E5B5004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CF0DC-4F29-47A7-80CC-A31A7D31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9AB47-24BB-4136-80B0-8FD4C58D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5658E-935C-42D4-B712-DA9E160A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A4232-C4A8-4660-AF0A-1E93BB15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0BE6B-885F-4730-861C-7C5979B4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FE3C7-570A-47DA-9373-78D88AFA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8455A-FDD5-498A-BFE5-6819A17F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F943F-A688-45CB-A716-B5B54F89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D9316-63F3-4F07-8F3D-03C69B57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CBBFE-9978-4123-963A-05CEC288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8FB-F5E7-4B3D-89B7-C1804D72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2E005-FD44-42C7-8D6F-1FD54A41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D382C-75EA-46E2-B9AE-51ACD38F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F5733-D05F-4825-97B2-50828A7D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65652-1DF6-4710-B1BE-60CC2331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80979-C06F-4AE2-859C-67880EE2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3D411-A0D2-4B97-9226-D30BC2F3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E60DC-24D9-4C18-A5D6-326DDC22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7A2DF-2A2E-4196-BE86-27D7F5EC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1AEE1-6EC4-4F02-A4ED-46940AD6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4AA1D-2022-4F02-BCAD-ADFFD20A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3D0-5830-4089-8CC7-91B7324E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DE424-7C48-4B3E-B310-DE099AB5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3C50B-666E-4BC1-84EE-EE9CA52B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F2922-2B10-447C-90EA-718EB958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114C3-CF16-4338-9F2B-4B992906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D4D9F-B390-4B33-B2B7-2023B958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BEB3E-8243-4017-A7B6-E69BA85B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1536E-A273-4EB9-BE76-2C819C13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94BD5-9559-4B8F-A0FB-B818659B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8C30B-3FB0-4782-9C23-11B926FC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C6DB3-FE65-40C5-B6D5-73002710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E82-1F7D-4C76-B360-CF0D7E9C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EE7FF-DC40-4572-AC04-3F64F717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4A079-E6B0-4B2E-9914-3DD44B7B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C38A7-E5C8-4D0D-BBB3-3F498A79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B6103-2A0D-4974-B39F-15F40E3D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F2280-6CF5-443A-B8B2-2CC790B6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A44AE-EAA9-4F4F-AD5B-AC4E0F0A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68ECD-587E-457A-BFB0-0DD24F35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F52F8-D9CC-41EC-825F-C4A4E4EC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559E9-A62D-448E-BDF3-158B20A5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2E700-4584-41D1-A9C7-D43BFBB5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5CDE-859B-44ED-A06C-56400FFF0FD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9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1D46-BBCC-4757-84FC-D1F9FD65701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4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66CC-6D6F-404D-8905-CCE146F04FC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78B0-F283-4C64-84DC-918C43F5E1A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DFB9-3862-4D03-8135-E1352C95C7F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1B56-B358-465D-906B-937D68E9428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4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EBAE-24B6-4518-B629-5EBEAAF3FB0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8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8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8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7F7D-0912-472C-8BBD-4CF13B774CA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3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3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3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A896-B58D-4A9B-89B2-A8B74B7F432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CA24-445F-47CF-B7E9-51795C08A86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2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3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3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4501-4FC2-4671-9403-F692B3F0C65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D19E-2CE7-4FD4-A1DA-A845AAAAB28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7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8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8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sldNum" idx="6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5CA3-8B48-4C77-A84D-7CB89BA7C61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A572-5C0E-4F5B-90B6-F6F14EB0318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7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7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7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6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F5CB-971E-46EA-A373-C099FBA080B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2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2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DA2E-4631-4183-A4F3-EC72F389985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89B0-2232-4CF8-9FF3-55E0E368E64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B3AC-2AD0-4120-AE95-A10BC663F92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EBA0-6218-4B0B-A154-DDBD13C5DD9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C3B0-8EBA-4423-8746-FACE8F9777B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4010-0D49-4245-8D41-E9CAFB448DD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0D4F-690A-4872-BD7E-93E53071086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59D1-74A8-46F3-9C8C-13693544E12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05A9-F672-4194-BB47-5D4F79D3F34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ps.aw.com/bc_martini_eap_4/0,11295,2680298-content,00.html" TargetMode="External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ерматогенeз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мација сперматогенезе 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s://www.youtube.com/watch?v=mK9_6HQbxt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огенез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7354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и проце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човека траје око 10 недељ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пубертета у семеном каналићу тестис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лазе се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толијеве</a:t>
            </a:r>
            <a:r>
              <a:rPr b="0" lang="sr-C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C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рминативне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568944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ечни пресек кроз ткиво тестис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120" name="Picture 3" descr="tea44he"/>
          <p:cNvPicPr/>
          <p:nvPr/>
        </p:nvPicPr>
        <p:blipFill>
          <a:blip r:embed="rId1"/>
          <a:stretch/>
        </p:blipFill>
        <p:spPr>
          <a:xfrm>
            <a:off x="2411280" y="1844640"/>
            <a:ext cx="3810240" cy="47624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4" descr="MREPL08"/>
          <p:cNvPicPr/>
          <p:nvPr/>
        </p:nvPicPr>
        <p:blipFill>
          <a:blip r:embed="rId2"/>
          <a:stretch/>
        </p:blipFill>
        <p:spPr>
          <a:xfrm>
            <a:off x="5811840" y="476280"/>
            <a:ext cx="3332160" cy="219060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5" descr="biol_03_img0271"/>
          <p:cNvPicPr/>
          <p:nvPr/>
        </p:nvPicPr>
        <p:blipFill>
          <a:blip r:embed="rId3"/>
          <a:stretch/>
        </p:blipFill>
        <p:spPr>
          <a:xfrm>
            <a:off x="179280" y="2133720"/>
            <a:ext cx="2152800" cy="3227400"/>
          </a:xfrm>
          <a:prstGeom prst="rect">
            <a:avLst/>
          </a:prstGeom>
          <a:ln w="0">
            <a:noFill/>
          </a:ln>
        </p:spPr>
      </p:pic>
      <p:sp>
        <p:nvSpPr>
          <p:cNvPr id="1123" name="Text Box 6"/>
          <p:cNvSpPr/>
          <p:nvPr/>
        </p:nvSpPr>
        <p:spPr>
          <a:xfrm>
            <a:off x="271440" y="5300640"/>
            <a:ext cx="118764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емени каналић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7"/>
          <p:cNvSpPr/>
          <p:nvPr/>
        </p:nvSpPr>
        <p:spPr>
          <a:xfrm>
            <a:off x="3852720" y="2133720"/>
            <a:ext cx="17272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имарне сперматоц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8"/>
          <p:cNvSpPr/>
          <p:nvPr/>
        </p:nvSpPr>
        <p:spPr>
          <a:xfrm>
            <a:off x="3635280" y="3429000"/>
            <a:ext cx="12970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ертолијеве ћел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9"/>
          <p:cNvSpPr/>
          <p:nvPr/>
        </p:nvSpPr>
        <p:spPr>
          <a:xfrm>
            <a:off x="4937040" y="3645000"/>
            <a:ext cx="127476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и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10"/>
          <p:cNvSpPr/>
          <p:nvPr/>
        </p:nvSpPr>
        <p:spPr>
          <a:xfrm>
            <a:off x="1763640" y="4221000"/>
            <a:ext cx="1727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огон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11"/>
          <p:cNvSpPr/>
          <p:nvPr/>
        </p:nvSpPr>
        <p:spPr>
          <a:xfrm>
            <a:off x="3079800" y="6021360"/>
            <a:ext cx="11872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латки мишић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12"/>
          <p:cNvSpPr/>
          <p:nvPr/>
        </p:nvSpPr>
        <p:spPr>
          <a:xfrm>
            <a:off x="6819840" y="2708280"/>
            <a:ext cx="207324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озоиди у лумену сем. канали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Picture 2" descr="spermatogenesis"/>
          <p:cNvPicPr/>
          <p:nvPr/>
        </p:nvPicPr>
        <p:blipFill>
          <a:blip r:embed="rId1"/>
          <a:stretch/>
        </p:blipFill>
        <p:spPr>
          <a:xfrm>
            <a:off x="3546360" y="260280"/>
            <a:ext cx="5256360" cy="6335640"/>
          </a:xfrm>
          <a:prstGeom prst="rect">
            <a:avLst/>
          </a:prstGeom>
          <a:ln w="0">
            <a:noFill/>
          </a:ln>
        </p:spPr>
      </p:pic>
      <p:sp>
        <p:nvSpPr>
          <p:cNvPr id="1131" name="Text Box 3"/>
          <p:cNvSpPr/>
          <p:nvPr/>
        </p:nvSpPr>
        <p:spPr>
          <a:xfrm>
            <a:off x="3708360" y="476280"/>
            <a:ext cx="165564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огонија 2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4"/>
          <p:cNvSpPr/>
          <p:nvPr/>
        </p:nvSpPr>
        <p:spPr>
          <a:xfrm>
            <a:off x="6659640" y="476280"/>
            <a:ext cx="99036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то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5"/>
          <p:cNvSpPr/>
          <p:nvPr/>
        </p:nvSpPr>
        <p:spPr>
          <a:xfrm>
            <a:off x="3635280" y="1628640"/>
            <a:ext cx="20890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имарна спматоцита 2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6"/>
          <p:cNvSpPr/>
          <p:nvPr/>
        </p:nvSpPr>
        <p:spPr>
          <a:xfrm>
            <a:off x="6659640" y="1916280"/>
            <a:ext cx="1297080" cy="73332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ва мејотичка део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7"/>
          <p:cNvSpPr/>
          <p:nvPr/>
        </p:nvSpPr>
        <p:spPr>
          <a:xfrm>
            <a:off x="7667640" y="3141720"/>
            <a:ext cx="1135080" cy="73332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руга мејотичка део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3635280" y="2708280"/>
            <a:ext cx="1440000" cy="73332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екундарна сперматоцит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9"/>
          <p:cNvSpPr/>
          <p:nvPr/>
        </p:nvSpPr>
        <p:spPr>
          <a:xfrm>
            <a:off x="3259080" y="4005360"/>
            <a:ext cx="12970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ид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10"/>
          <p:cNvSpPr/>
          <p:nvPr/>
        </p:nvSpPr>
        <p:spPr>
          <a:xfrm>
            <a:off x="2987640" y="5157720"/>
            <a:ext cx="156672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озоид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11"/>
          <p:cNvSpPr/>
          <p:nvPr/>
        </p:nvSpPr>
        <p:spPr>
          <a:xfrm>
            <a:off x="7956720" y="5157720"/>
            <a:ext cx="99036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л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12"/>
          <p:cNvSpPr/>
          <p:nvPr/>
        </p:nvSpPr>
        <p:spPr>
          <a:xfrm>
            <a:off x="7885080" y="5589720"/>
            <a:ext cx="99072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р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3"/>
          <p:cNvSpPr/>
          <p:nvPr/>
        </p:nvSpPr>
        <p:spPr>
          <a:xfrm>
            <a:off x="7812000" y="5877000"/>
            <a:ext cx="99072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е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4"/>
          <p:cNvSpPr/>
          <p:nvPr/>
        </p:nvSpPr>
        <p:spPr>
          <a:xfrm>
            <a:off x="6983280" y="981000"/>
            <a:ext cx="216072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аст и диференција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36352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ордијал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огоније   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е сперматоците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ндарне сперматоцит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ид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е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озоиди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45920" y="163440"/>
            <a:ext cx="525636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иогенез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46" name="Picture 4" descr="200402260004"/>
          <p:cNvPicPr/>
          <p:nvPr/>
        </p:nvPicPr>
        <p:blipFill>
          <a:blip r:embed="rId1"/>
          <a:stretch/>
        </p:blipFill>
        <p:spPr>
          <a:xfrm>
            <a:off x="250920" y="1052640"/>
            <a:ext cx="8893080" cy="5543280"/>
          </a:xfrm>
          <a:prstGeom prst="rect">
            <a:avLst/>
          </a:prstGeom>
          <a:ln w="0">
            <a:noFill/>
          </a:ln>
        </p:spPr>
      </p:pic>
      <p:sp>
        <p:nvSpPr>
          <p:cNvPr id="1147" name="Text Box 5"/>
          <p:cNvSpPr/>
          <p:nvPr/>
        </p:nvSpPr>
        <p:spPr>
          <a:xfrm>
            <a:off x="1116000" y="1125360"/>
            <a:ext cx="990720" cy="4590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олџијев апара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6"/>
          <p:cNvSpPr/>
          <p:nvPr/>
        </p:nvSpPr>
        <p:spPr>
          <a:xfrm>
            <a:off x="1116000" y="1557360"/>
            <a:ext cx="99072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кро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7"/>
          <p:cNvSpPr/>
          <p:nvPr/>
        </p:nvSpPr>
        <p:spPr>
          <a:xfrm>
            <a:off x="2050920" y="2924280"/>
            <a:ext cx="99072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Центрио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8"/>
          <p:cNvSpPr/>
          <p:nvPr/>
        </p:nvSpPr>
        <p:spPr>
          <a:xfrm>
            <a:off x="684360" y="2924280"/>
            <a:ext cx="99036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уклеу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9"/>
          <p:cNvSpPr/>
          <p:nvPr/>
        </p:nvSpPr>
        <p:spPr>
          <a:xfrm>
            <a:off x="3203640" y="2924280"/>
            <a:ext cx="122400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кротубу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10"/>
          <p:cNvSpPr/>
          <p:nvPr/>
        </p:nvSpPr>
        <p:spPr>
          <a:xfrm>
            <a:off x="3348000" y="3213000"/>
            <a:ext cx="99072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и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11"/>
          <p:cNvSpPr/>
          <p:nvPr/>
        </p:nvSpPr>
        <p:spPr>
          <a:xfrm>
            <a:off x="4500720" y="1355760"/>
            <a:ext cx="122364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тохондр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12"/>
          <p:cNvSpPr/>
          <p:nvPr/>
        </p:nvSpPr>
        <p:spPr>
          <a:xfrm>
            <a:off x="6043680" y="1849320"/>
            <a:ext cx="99036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уклеу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13"/>
          <p:cNvSpPr/>
          <p:nvPr/>
        </p:nvSpPr>
        <p:spPr>
          <a:xfrm>
            <a:off x="6043680" y="1573200"/>
            <a:ext cx="99036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кроз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14"/>
          <p:cNvSpPr/>
          <p:nvPr/>
        </p:nvSpPr>
        <p:spPr>
          <a:xfrm>
            <a:off x="5724360" y="3500280"/>
            <a:ext cx="1133640" cy="4590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дбацивање цитоплаз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15"/>
          <p:cNvSpPr/>
          <p:nvPr/>
        </p:nvSpPr>
        <p:spPr>
          <a:xfrm>
            <a:off x="6200640" y="4946760"/>
            <a:ext cx="99072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е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16"/>
          <p:cNvSpPr/>
          <p:nvPr/>
        </p:nvSpPr>
        <p:spPr>
          <a:xfrm>
            <a:off x="7236000" y="3141720"/>
            <a:ext cx="99036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ра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17"/>
          <p:cNvSpPr/>
          <p:nvPr/>
        </p:nvSpPr>
        <p:spPr>
          <a:xfrm>
            <a:off x="8388360" y="3141720"/>
            <a:ext cx="99072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л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18"/>
          <p:cNvSpPr/>
          <p:nvPr/>
        </p:nvSpPr>
        <p:spPr>
          <a:xfrm>
            <a:off x="0" y="765000"/>
            <a:ext cx="172872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и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19"/>
          <p:cNvSpPr/>
          <p:nvPr/>
        </p:nvSpPr>
        <p:spPr>
          <a:xfrm>
            <a:off x="6948360" y="6381720"/>
            <a:ext cx="187164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озо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перматозоид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163" name="Picture 2" descr="C:\Users\Bilja\Desktop\gradja spermatoyoida 3.png"/>
          <p:cNvPicPr/>
          <p:nvPr/>
        </p:nvPicPr>
        <p:blipFill>
          <a:blip r:embed="rId1"/>
          <a:stretch/>
        </p:blipFill>
        <p:spPr>
          <a:xfrm>
            <a:off x="0" y="2575080"/>
            <a:ext cx="9144000" cy="27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ја сперматозоид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10920" y="2707920"/>
            <a:ext cx="7777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eтљив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ивљавањe сперматозоида и способност оплође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ска регулација сперматогенезе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10920" y="2707920"/>
            <a:ext cx="74278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бертет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њи режањ хипофиз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S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S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лује на сперматогенез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H</a:t>
            </a: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редно) - утиче на продукцију тестостерона (Лејдигове ћелије у тестис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809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је сперматогенезе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4278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ан број: од 2,25 до 544 милона/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чно 120 милона/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ј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роју сперматозо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рађи сперматозо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0" name="Picture 2" descr="C:\Users\Bilja\Desktop\anomalije spermatoyoida.png"/>
          <p:cNvPicPr/>
          <p:nvPr/>
        </p:nvPicPr>
        <p:blipFill>
          <a:blip r:embed="rId1"/>
          <a:stretch/>
        </p:blipFill>
        <p:spPr>
          <a:xfrm>
            <a:off x="971640" y="3781440"/>
            <a:ext cx="6697440" cy="296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Korisnik</cp:lastModifiedBy>
  <dcterms:modified xsi:type="dcterms:W3CDTF">2018-11-09T06:54:41Z</dcterms:modified>
  <cp:revision>231</cp:revision>
  <dc:subject/>
  <dc:title>MUTACIJE GENA</dc:title>
</cp:coreProperties>
</file>